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FCD7C8-4E09-47C5-A6E0-ED4EDAFA5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D8AC7-CA6B-47B1-81E5-7D32699C0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2106-A5CC-4FB9-B7AD-96233A59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8B1F-87CC-42F5-A960-0BE2CB3E3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436B7-5494-4B72-9BFB-6DA5BB714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CF0A1-E6CD-4ED4-B101-0DCDB03E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3F75-304C-4B29-B27B-1C9B9DD5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DB8E7-3E4A-4C7F-9FA1-2E8EC492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20384-8C0A-4B5C-B934-FF80CA032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137B-67C4-4308-861A-5BAFB68BE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F482-B3EF-4EB6-881C-9E5AA3EE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2E6C-99CC-4210-99B4-F759D710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E0AA-F513-4231-9325-458E31F4C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F2268F-A8B9-48F0-A3EA-E75DA4044F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Vertical Antenna Myth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How do Vertical Antennas really work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3166FD33-F87E-4D75-8D3E-439C9BCA9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What about antennas shorter then a physical 1/4 wave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For a antenna length of 1/8 wave which is the approximate length of many of the commercial multiband trap verticals the feed point impedance becomes 13.21 Ohm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If the antenna has a 1:1 VSWR the missing 36.79 ohms must be made up of ground losses and resistive losses in the traps or loading coi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EE08F52F-7C8C-4F85-BA00-44E2334F61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1/8 wave vertical efficiency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is implies that with 5 watts from the transmitter that 1.321 watts will be radiated and 3.679 watts will be lost in the resistive losses of the antenna or 26.42 % of the applied transmitter power will be radiate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815B051B-469E-435F-A9C8-524FA612C1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How is this corrected?</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One way is to reduce the ground losses by elevating the antenna and using a counterpoise or if the antenna is ground mounted add radials to the under the antenna. The more and longer the better. They do not have to be resonate because the coupling to the ground will detune them anyway.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472F3188-A738-4B62-8603-95EF1AB43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 smallest effective number and size of radial is 20 with a length of 0.2 wavelengths at the lowest frequency of use for the antenna. </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re are limits to how far you can take this; however it doesn’t take very much to make a significant efficiency difference.</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is will lower the ground losses however the impedance will be 36 Ohms at the feed point. (A matching method will be required)</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9FD18FC2-2A1D-4F6C-934B-340DC7AEAF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Other Loss Consideratio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 next thing that must be done is to decrease the losses in the traps or loading coil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Finally make sure that there are minimal losses in the matching network.</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8F9FFC68-BCEC-4C50-B229-D857E3961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Verticals need very small space for installa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We have already seen that for 40 meters that the area required for the radials for an efficient antenna is a circle with a diameter of 54 fee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Next we will look at some of the effects of placing the antenna near a house or other build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AB6B1B9B-2259-4FCE-9A3C-A227046AE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House gutters Added</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1752480" y="1981080"/>
            <a:ext cx="5943600" cy="3533760"/>
          </a:xfrm>
          <a:prstGeom prst="rect">
            <a:avLst/>
          </a:prstGeom>
          <a:ln w="0">
            <a:noFill/>
          </a:ln>
        </p:spPr>
      </p:pic>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DC375898-85D2-427B-90E5-4928168DF1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zimuth Pattern with nothing near the antenna.</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228760" y="2676600"/>
            <a:ext cx="4686480" cy="1504800"/>
          </a:xfrm>
          <a:prstGeom prst="rect">
            <a:avLst/>
          </a:prstGeom>
          <a:ln w="0">
            <a:noFill/>
          </a:ln>
        </p:spPr>
      </p:pic>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A1E7847C-2533-4AC8-AD3D-4743445C0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Effect on radiation pattern.</a:t>
            </a:r>
            <a:endParaRPr b="0" lang="en-US" sz="4400" spc="-1" strike="noStrike">
              <a:solidFill>
                <a:srgbClr val="000000"/>
              </a:solidFill>
              <a:latin typeface="Times New Roman"/>
            </a:endParaRPr>
          </a:p>
        </p:txBody>
      </p:sp>
      <p:pic>
        <p:nvPicPr>
          <p:cNvPr id="85" name="" descr=""/>
          <p:cNvPicPr/>
          <p:nvPr/>
        </p:nvPicPr>
        <p:blipFill>
          <a:blip r:embed="rId1"/>
          <a:stretch/>
        </p:blipFill>
        <p:spPr>
          <a:xfrm>
            <a:off x="1219320" y="2286000"/>
            <a:ext cx="6781680" cy="2209680"/>
          </a:xfrm>
          <a:prstGeom prst="rect">
            <a:avLst/>
          </a:prstGeom>
          <a:ln w="0">
            <a:noFill/>
          </a:ln>
        </p:spPr>
      </p:pic>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E56D44C7-5F42-4D0B-AE8A-1A19E3FE9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Vertical antenna require much more space the most people assume.</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areful installation can optimize vertical antenna performance if you are aware of the true requirements of vertical antenna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Will verticals work without taking these things into accou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C89F0861-D0DD-45E7-B46A-8E4BC6B3B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What are your belief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Vertical Antennas are good DX antennas. </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Vertical Antennas with a 1:1 VSWR when fed with 50 Ohm coax are efficien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Vertical Antennas need very small spaces for efficient installation.</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56B1AED9-0A9C-41D5-AB43-D5E6030A2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066680"/>
            <a:ext cx="777240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Verticals do work. If you cannot take        these things into account when installing them they will still work but will not be very efficien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Do the best that you can but understand the trade off. </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Always remember a poor antenna is better than no antenna.</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K7RXV</a:t>
            </a:r>
          </a:p>
        </p:txBody>
      </p:sp>
      <p:sp>
        <p:nvSpPr>
          <p:cNvPr id="3" name="PlaceHolder 2"/>
          <p:cNvSpPr>
            <a:spLocks noGrp="1"/>
          </p:cNvSpPr>
          <p:nvPr>
            <p:ph type="sldNum" idx="3"/>
          </p:nvPr>
        </p:nvSpPr>
        <p:spPr/>
        <p:txBody>
          <a:bodyPr/>
          <a:p>
            <a:fld id="{4D05204E-CF8D-46FD-AC14-090C96DA1B86}"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re Verticals good DX Antennas?</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914400" y="2666880"/>
            <a:ext cx="7162920" cy="2438640"/>
          </a:xfrm>
          <a:prstGeom prst="rect">
            <a:avLst/>
          </a:prstGeom>
          <a:ln w="0">
            <a:noFill/>
          </a:ln>
        </p:spPr>
      </p:pic>
      <p:sp>
        <p:nvSpPr>
          <p:cNvPr id="55" name=""/>
          <p:cNvSpPr/>
          <p:nvPr/>
        </p:nvSpPr>
        <p:spPr>
          <a:xfrm>
            <a:off x="1676520" y="5334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Classic Book antenna Vertical Antenna patter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8A1C5807-972C-4216-A95D-BD3F35B41E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Vertical Antenna In Real World</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990720" y="2676600"/>
            <a:ext cx="7162560" cy="2352600"/>
          </a:xfrm>
          <a:prstGeom prst="rect">
            <a:avLst/>
          </a:prstGeom>
          <a:ln w="0">
            <a:noFill/>
          </a:ln>
        </p:spPr>
      </p:pic>
      <p:sp>
        <p:nvSpPr>
          <p:cNvPr id="58" name=""/>
          <p:cNvSpPr/>
          <p:nvPr/>
        </p:nvSpPr>
        <p:spPr>
          <a:xfrm>
            <a:off x="3276720" y="5299200"/>
            <a:ext cx="304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Note: Take off ang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0BA491E0-3BA9-4702-82CC-A3005FD26D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Don’t be misle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 Antenna texts normally show the antenna pattern over a perfect ground. The closest approximation of a perfect ground is sea water. </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 higher take off angle is due to the ground loses of a vertically polarized wave at the distance of the first reflection of the signal from the ground (the frenel zon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7E61F3E6-5C47-42F4-9133-EED4831F7C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ntenna Feed Point Impedance</a:t>
            </a:r>
            <a:endParaRPr b="0" lang="en-US" sz="4400" spc="-1" strike="noStrike">
              <a:solidFill>
                <a:srgbClr val="000000"/>
              </a:solidFill>
              <a:latin typeface="Times New Roman"/>
            </a:endParaRPr>
          </a:p>
        </p:txBody>
      </p:sp>
      <p:sp>
        <p:nvSpPr>
          <p:cNvPr id="62" name=""/>
          <p:cNvSpPr/>
          <p:nvPr/>
        </p:nvSpPr>
        <p:spPr>
          <a:xfrm>
            <a:off x="457560" y="990720"/>
            <a:ext cx="84146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EZNEC+ ver.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Vertical over real ground                    10/6/2006     2:49:11 P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SOURCE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Frequency = 7 MH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ource 1      Voltage = 36.48 V. at 2.96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 = 1 A. at 0.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Impedance = 36.43 + J 1.886 oh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Power = 36.43 wat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SWR (50 ohm system) =  1.377  (75 ohm system) =  2.0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B60677EB-BAF2-4415-A42F-52F9F5E1C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Feedpoint Impedan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e feed point impedance of a 1/4 wave vertical over real ground is 37 Ohms.</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If the feed point impedance as seen in a real world installation is 50 Ohms the missing 13 ohms must be made up of losses in the antenna system.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DA3CF084-B5CC-4303-A04F-ADC1A35CF1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ntenna Efficiency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is means that if 5 watts from a transmitter is fed to the antenna that 3.7 watts will be radiated and 1.3 watts will be lost in the antenna and ground resistance losse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his calculates to loss of 26 %. Only 74% of the transmitter power will be radiat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7RXV</a:t>
            </a:r>
          </a:p>
        </p:txBody>
      </p:sp>
      <p:sp>
        <p:nvSpPr>
          <p:cNvPr id="5" name="PlaceHolder 4"/>
          <p:cNvSpPr>
            <a:spLocks noGrp="1"/>
          </p:cNvSpPr>
          <p:nvPr>
            <p:ph type="sldNum" idx="3"/>
          </p:nvPr>
        </p:nvSpPr>
        <p:spPr/>
        <p:txBody>
          <a:bodyPr/>
          <a:p>
            <a:fld id="{3DDBE277-E12A-4D14-BE54-B61BD4348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ntennas Shorter Than 1/4 Wave </a:t>
            </a:r>
            <a:endParaRPr b="0" lang="en-US" sz="4400" spc="-1" strike="noStrike">
              <a:solidFill>
                <a:srgbClr val="000000"/>
              </a:solidFill>
              <a:latin typeface="Times New Roman"/>
            </a:endParaRPr>
          </a:p>
        </p:txBody>
      </p:sp>
      <p:sp>
        <p:nvSpPr>
          <p:cNvPr id="68" name=""/>
          <p:cNvSpPr/>
          <p:nvPr/>
        </p:nvSpPr>
        <p:spPr>
          <a:xfrm>
            <a:off x="380880" y="838080"/>
            <a:ext cx="8331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EZNEC+ ver.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Vertical over real ground                    10/6/2006     1:55:58 P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SOURCE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Frequency = 7 MH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ource 1      Voltage = 14.53 V. at -24.66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 = 1 A. at 0.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Impedance = 13.21 - J 6.062 oh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Power = 13.21 wat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SWR (50 ohm system) =  3.846  (75 ohm system) =  5.7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K7RXV</a:t>
            </a:r>
          </a:p>
        </p:txBody>
      </p:sp>
      <p:sp>
        <p:nvSpPr>
          <p:cNvPr id="4" name="PlaceHolder 3"/>
          <p:cNvSpPr>
            <a:spLocks noGrp="1"/>
          </p:cNvSpPr>
          <p:nvPr>
            <p:ph type="sldNum" idx="3"/>
          </p:nvPr>
        </p:nvSpPr>
        <p:spPr/>
        <p:txBody>
          <a:bodyPr/>
          <a:p>
            <a:fld id="{D400CE6B-276B-45B3-AB97-F211D2E07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9:43:29Z</dcterms:created>
  <dc:creator>Roger Steyoert</dc:creator>
  <dc:description/>
  <dc:language>en-US</dc:language>
  <cp:lastModifiedBy>Roger Steyoert</cp:lastModifiedBy>
  <dcterms:modified xsi:type="dcterms:W3CDTF">2007-01-01T20:30:05Z</dcterms:modified>
  <cp:revision>19</cp:revision>
  <dc:subject/>
  <dc:title>Vertical Antenna Myths</dc:title>
</cp:coreProperties>
</file>